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C32E0-0FD0-4208-89BE-6DD63A2C0B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5917-C3BF-46D9-8F79-C8BBF804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15DA-D3FD-489E-B9BC-4B125486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092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8560" y="98100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364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092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18560" y="3651480"/>
            <a:ext cx="2759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60FB-1BA6-4DF8-98AF-2288A6F2C5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6847-B947-4548-88E9-319A6498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D1DE-C452-494B-9FCA-151F533D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6DD0-CE1A-4E1E-9DA1-4265878B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4382-5AFB-4550-8DEE-7A8FF572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491A-9204-472A-BD75-10F5EE20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C2EC-C087-46BE-8E1E-2F2374BA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4560" y="365148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5EA6-BAF6-4C1E-A5DE-F851D876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4560" y="981000"/>
            <a:ext cx="4181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3640" y="3651480"/>
            <a:ext cx="8569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EF8D-BB33-4230-82F5-A4AEE66F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6381720"/>
            <a:ext cx="9137520" cy="29196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13500000"/>
          </a:gradFill>
          <a:ln w="12600">
            <a:solidFill>
              <a:srgbClr val="aac2f2"/>
            </a:solidFill>
            <a:miter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308640"/>
            <a:ext cx="9143640" cy="388800"/>
            <a:chOff x="0" y="6308640"/>
            <a:chExt cx="9143640" cy="388800"/>
          </a:xfrm>
        </p:grpSpPr>
        <p:sp>
          <p:nvSpPr>
            <p:cNvPr id="2" name=""/>
            <p:cNvSpPr/>
            <p:nvPr/>
          </p:nvSpPr>
          <p:spPr>
            <a:xfrm>
              <a:off x="0" y="63086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441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732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31656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44904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65815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6200640"/>
            <a:ext cx="1440720" cy="654840"/>
            <a:chOff x="0" y="6200640"/>
            <a:chExt cx="1440720" cy="654840"/>
          </a:xfrm>
        </p:grpSpPr>
        <p:sp>
          <p:nvSpPr>
            <p:cNvPr id="9" name=""/>
            <p:cNvSpPr/>
            <p:nvPr/>
          </p:nvSpPr>
          <p:spPr>
            <a:xfrm>
              <a:off x="83880" y="6200640"/>
              <a:ext cx="1275480" cy="646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249240"/>
              <a:ext cx="1440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Honfy József</a:t>
              </a:r>
              <a:endParaRPr b="0" lang="en-US" sz="10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egyetemi adjunktus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SZÉCHENYI I. EGYETEM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Távközlési Tanszék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cc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e4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904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904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479840" y="3108240"/>
            <a:ext cx="52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72428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12000" y="6381720"/>
            <a:ext cx="133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9046e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46e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4427640" y="6381720"/>
            <a:ext cx="50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9046e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F689-8D15-4C0A-B082-75EC372DEEB5}" type="slidenum">
              <a:rPr b="0" lang="en-US" sz="1000" spc="-1" strike="noStrike">
                <a:solidFill>
                  <a:srgbClr val="09046e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0" y="6469200"/>
            <a:ext cx="9143640" cy="388440"/>
            <a:chOff x="0" y="6469200"/>
            <a:chExt cx="9143640" cy="388440"/>
          </a:xfrm>
        </p:grpSpPr>
        <p:sp>
          <p:nvSpPr>
            <p:cNvPr id="18" name=""/>
            <p:cNvSpPr/>
            <p:nvPr/>
          </p:nvSpPr>
          <p:spPr>
            <a:xfrm>
              <a:off x="0" y="64692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66013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67338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4771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60960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6741720"/>
              <a:ext cx="9143640" cy="11592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0" y="6200640"/>
            <a:ext cx="1440720" cy="648000"/>
            <a:chOff x="0" y="6200640"/>
            <a:chExt cx="1440720" cy="648000"/>
          </a:xfrm>
        </p:grpSpPr>
        <p:sp>
          <p:nvSpPr>
            <p:cNvPr id="25" name=""/>
            <p:cNvSpPr/>
            <p:nvPr/>
          </p:nvSpPr>
          <p:spPr>
            <a:xfrm>
              <a:off x="83880" y="6200640"/>
              <a:ext cx="1275480" cy="648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12600">
              <a:solidFill>
                <a:srgbClr val="dadada"/>
              </a:solidFill>
              <a:miter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9046e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49240"/>
              <a:ext cx="1440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Honfy József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egyetemi adjunktus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SZÉCHENYI I. EGYETEM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ávközlési Tanszék</a:t>
              </a:r>
              <a:endParaRPr b="0" lang="en-US" sz="800" spc="-1" strike="noStrike">
                <a:solidFill>
                  <a:srgbClr val="09046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Z ÁTVITELI CSATORN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Hálózat modellje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2421000"/>
            <a:ext cx="8569080" cy="36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(</a:t>
            </a:r>
            <a:r>
              <a:rPr b="1" lang="el-GR" sz="18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  <a:ea typeface="Arial"/>
              </a:rPr>
              <a:t>) átviteli csatorna lineáris ha az időtartományban érvényes függvénykapcsolat a bemenete és kimenete között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f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  <a:ea typeface="Arial"/>
              </a:rPr>
              <a:t>2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(t)=k f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  <a:ea typeface="Arial"/>
              </a:rPr>
              <a:t>1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(t-</a:t>
            </a:r>
            <a:r>
              <a:rPr b="1" lang="el-GR" sz="2000" spc="-1" strike="noStrike">
                <a:solidFill>
                  <a:srgbClr val="09046e"/>
                </a:solidFill>
                <a:latin typeface="Arial"/>
                <a:ea typeface="Arial"/>
              </a:rPr>
              <a:t>τ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  <a:ea typeface="Arial"/>
              </a:rPr>
              <a:t>0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) és k=konstans </a:t>
            </a:r>
            <a:r>
              <a:rPr b="1" lang="el-GR" sz="2000" spc="-1" strike="noStrike">
                <a:solidFill>
                  <a:srgbClr val="09046e"/>
                </a:solidFill>
                <a:latin typeface="Arial"/>
                <a:ea typeface="Arial"/>
              </a:rPr>
              <a:t>τ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  <a:ea typeface="Arial"/>
              </a:rPr>
              <a:t>0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 =konstans (időbeli eltolódás, mert megengedünk idővariancát is)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Ugyanez a feltétel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A(</a:t>
            </a:r>
            <a:r>
              <a:rPr b="1" lang="el-GR" sz="2000" spc="-1" strike="noStrike">
                <a:solidFill>
                  <a:srgbClr val="09046e"/>
                </a:solidFill>
                <a:latin typeface="Arial"/>
              </a:rPr>
              <a:t>ω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) = konstans 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    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  <a:ea typeface="Arial"/>
              </a:rPr>
              <a:t>d </a:t>
            </a:r>
            <a:r>
              <a:rPr b="0" lang="el-GR" sz="1600" spc="-1" strike="noStrike">
                <a:solidFill>
                  <a:srgbClr val="09046e"/>
                </a:solidFill>
                <a:latin typeface="Arial"/>
              </a:rPr>
              <a:t>Φ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(</a:t>
            </a:r>
            <a:r>
              <a:rPr b="0" lang="el-GR" sz="1600" spc="-1" strike="noStrike">
                <a:solidFill>
                  <a:srgbClr val="09046e"/>
                </a:solidFill>
                <a:latin typeface="Arial"/>
              </a:rPr>
              <a:t>ω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9046e"/>
                </a:solidFill>
                <a:latin typeface="Arial"/>
              </a:rPr>
              <a:t>Φ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9046e"/>
                </a:solidFill>
                <a:latin typeface="Arial"/>
              </a:rPr>
              <a:t>ω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)=lineáris 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=&gt; </a:t>
            </a:r>
            <a:r>
              <a:rPr b="1" lang="el-GR" sz="2000" spc="-1" strike="noStrike">
                <a:solidFill>
                  <a:srgbClr val="09046e"/>
                </a:solidFill>
                <a:latin typeface="Arial"/>
                <a:ea typeface="Arial"/>
              </a:rPr>
              <a:t>τ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(</a:t>
            </a:r>
            <a:r>
              <a:rPr b="1" lang="el-GR" sz="20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) = -------- =konstans az </a:t>
            </a:r>
            <a:r>
              <a:rPr b="1" lang="el-GR" sz="18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  <a:ea typeface="Arial"/>
              </a:rPr>
              <a:t>B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  <a:ea typeface="Arial"/>
              </a:rPr>
              <a:t>= </a:t>
            </a:r>
            <a:r>
              <a:rPr b="1" lang="el-GR" sz="18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  <a:ea typeface="Arial"/>
              </a:rPr>
              <a:t>max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  <a:ea typeface="Arial"/>
              </a:rPr>
              <a:t>- </a:t>
            </a:r>
            <a:r>
              <a:rPr b="1" lang="el-GR" sz="18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  <a:ea typeface="Arial"/>
              </a:rPr>
              <a:t>min </a:t>
            </a:r>
            <a:endParaRPr b="1" lang="en-US" sz="1200" spc="-1" strike="noStrike">
              <a:solidFill>
                <a:srgbClr val="0904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  <a:ea typeface="Arial"/>
              </a:rPr>
              <a:t>       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  <a:ea typeface="Arial"/>
              </a:rPr>
              <a:t>dt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0" lang="hu-HU" sz="16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tartományban</a:t>
            </a:r>
            <a:endParaRPr b="0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3440" y="1773360"/>
            <a:ext cx="866520" cy="45972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Φ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(</a:t>
            </a: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1989000"/>
            <a:ext cx="9302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1989000"/>
            <a:ext cx="64908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1773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f</a:t>
            </a:r>
            <a:r>
              <a:rPr b="0" lang="en-US" sz="1000" spc="-1" strike="noStrike">
                <a:solidFill>
                  <a:srgbClr val="09046e"/>
                </a:solidFill>
                <a:latin typeface="Arial CE"/>
              </a:rPr>
              <a:t>1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70680" y="1773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f</a:t>
            </a:r>
            <a:r>
              <a:rPr b="0" lang="en-US" sz="1000" spc="-1" strike="noStrike">
                <a:solidFill>
                  <a:srgbClr val="09046e"/>
                </a:solidFill>
                <a:latin typeface="Arial CE"/>
              </a:rPr>
              <a:t>2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60720" y="1989000"/>
            <a:ext cx="50328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1773360"/>
            <a:ext cx="825480" cy="45972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A(</a:t>
            </a: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Ábrázolv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1484280"/>
            <a:ext cx="0" cy="1513080"/>
          </a:xfrm>
          <a:prstGeom prst="line">
            <a:avLst/>
          </a:prstGeom>
          <a:ln w="12600">
            <a:solidFill>
              <a:srgbClr val="0904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997360"/>
            <a:ext cx="28796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16000" y="2133360"/>
            <a:ext cx="216000" cy="64764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2133720"/>
            <a:ext cx="1439640" cy="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2133720"/>
            <a:ext cx="792360" cy="71748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4000" y="272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0920" y="128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A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60800" y="1465200"/>
            <a:ext cx="0" cy="1513080"/>
          </a:xfrm>
          <a:prstGeom prst="line">
            <a:avLst/>
          </a:prstGeom>
          <a:ln w="12600">
            <a:solidFill>
              <a:srgbClr val="0904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2349360"/>
            <a:ext cx="28796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292720" y="1915920"/>
            <a:ext cx="1511280" cy="93636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3800" y="2276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9720" y="126828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Φ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1916280"/>
            <a:ext cx="216000" cy="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076720" y="2852640"/>
            <a:ext cx="216000" cy="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97440" y="3141720"/>
            <a:ext cx="9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max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5440" y="314172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min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1989000"/>
            <a:ext cx="0" cy="1079640"/>
          </a:xfrm>
          <a:prstGeom prst="line">
            <a:avLst/>
          </a:prstGeom>
          <a:ln w="12600">
            <a:solidFill>
              <a:srgbClr val="0904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1989000"/>
            <a:ext cx="0" cy="1079640"/>
          </a:xfrm>
          <a:prstGeom prst="line">
            <a:avLst/>
          </a:prstGeom>
          <a:ln w="12600">
            <a:solidFill>
              <a:srgbClr val="0904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02880" y="1989000"/>
            <a:ext cx="9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max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0880" y="198900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min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64000" y="1989000"/>
            <a:ext cx="0" cy="1079640"/>
          </a:xfrm>
          <a:prstGeom prst="line">
            <a:avLst/>
          </a:prstGeom>
          <a:ln w="12600">
            <a:solidFill>
              <a:srgbClr val="0904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1989000"/>
            <a:ext cx="0" cy="1079640"/>
          </a:xfrm>
          <a:prstGeom prst="line">
            <a:avLst/>
          </a:prstGeom>
          <a:ln w="12600">
            <a:solidFill>
              <a:srgbClr val="0904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3619440"/>
            <a:ext cx="0" cy="1513080"/>
          </a:xfrm>
          <a:prstGeom prst="line">
            <a:avLst/>
          </a:prstGeom>
          <a:ln w="12600">
            <a:solidFill>
              <a:srgbClr val="0904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5132520"/>
            <a:ext cx="28796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042920" y="4268880"/>
            <a:ext cx="289080" cy="2376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4268880"/>
            <a:ext cx="1439640" cy="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71640" y="4149360"/>
            <a:ext cx="144720" cy="11916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34000" y="4862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7440" y="5276880"/>
            <a:ext cx="9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max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5440" y="527688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min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4124160"/>
            <a:ext cx="0" cy="1079640"/>
          </a:xfrm>
          <a:prstGeom prst="line">
            <a:avLst/>
          </a:prstGeom>
          <a:ln w="12600">
            <a:solidFill>
              <a:srgbClr val="0904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4124160"/>
            <a:ext cx="0" cy="1079640"/>
          </a:xfrm>
          <a:prstGeom prst="line">
            <a:avLst/>
          </a:prstGeom>
          <a:ln w="12600">
            <a:solidFill>
              <a:srgbClr val="0904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440" y="37638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τ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6360" y="4149720"/>
            <a:ext cx="144360" cy="7128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a az amplitúdó és a fázisfeltételek nem teljesülnek akkor a csatorna lineárisan torzít !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Lineáris torzítás az átvitelben nem jelent a kimeneten új összetevőket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csatorna lineáris torzítása lineáris korrektorokkal kompenzálható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orrektorok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mplitúdó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Fázis vagy futási idő 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lineáris torzítás előállhat a csatorna különböző kódolású szakaszain. Az egyes szakaszok okozta torzítás, csak hasonló jellegű szakaszokban kompenzálható. (Ellenkező esetben nem végezhető el, vagy nemlineáris torzításhoz vezet!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Gyakorlati példák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URH FM műsorszórás preemfázis-deemfázis (szándékosan bevitt torzítás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V vevők KF átviteli szakaszának fázishibája az adóoldali KF fokozatban kerül kompenzálásra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Vizsgálati módszer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Négyszög impulzus sorozatta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Tetőesés – alacsony frekvenciás átvitelben lineáris torzítás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Túllövés – magas frekvenciás átvitelben lineáris torzítás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A csatorna nem lineáris szakasz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y=h(x)=a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0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+a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1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x+a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9046e"/>
                </a:solidFill>
                <a:latin typeface="Arial"/>
              </a:rPr>
              <a:t>²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+a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3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9046e"/>
                </a:solidFill>
                <a:latin typeface="Arial"/>
              </a:rPr>
              <a:t>³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+….a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n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2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, a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3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…a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   együtthatójú tagokkal leírt szakasz a hálózat nemlineáris szakasza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y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n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=h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n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(x)=a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9046e"/>
                </a:solidFill>
                <a:latin typeface="Arial"/>
              </a:rPr>
              <a:t>²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+a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3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9046e"/>
                </a:solidFill>
                <a:latin typeface="Arial"/>
              </a:rPr>
              <a:t>³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+….a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n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A hálózatban áthaladó jel lehet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Periodikus, tetszőleges alakú az idő függvényében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Véletlen változó (sztochasztikus) az idő függvényében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A vizsgálatok során periodikus szinuszos jeleket használunk.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f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1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(t) helyett u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</a:rPr>
              <a:t>1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</a:rPr>
              <a:t>(t)=U sin </a:t>
            </a:r>
            <a:r>
              <a:rPr b="1" lang="el-GR" sz="20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t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A nemlineáris szakasz hatása nonlineáris torzítás. U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  <a:ea typeface="Arial"/>
              </a:rPr>
              <a:t>2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(t)=k U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  <a:ea typeface="Arial"/>
              </a:rPr>
              <a:t>1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(t-</a:t>
            </a:r>
            <a:r>
              <a:rPr b="1" lang="el-GR" sz="2000" spc="-1" strike="noStrike">
                <a:solidFill>
                  <a:srgbClr val="09046e"/>
                </a:solidFill>
                <a:latin typeface="Arial"/>
                <a:ea typeface="Arial"/>
              </a:rPr>
              <a:t>τ</a:t>
            </a:r>
            <a:r>
              <a:rPr b="1" lang="hu-HU" sz="1400" spc="-1" strike="noStrike">
                <a:solidFill>
                  <a:srgbClr val="09046e"/>
                </a:solidFill>
                <a:latin typeface="Arial"/>
                <a:ea typeface="Arial"/>
              </a:rPr>
              <a:t>0</a:t>
            </a:r>
            <a:r>
              <a:rPr b="1" lang="hu-HU" sz="2000" spc="-1" strike="noStrike">
                <a:solidFill>
                  <a:srgbClr val="09046e"/>
                </a:solidFill>
                <a:latin typeface="Arial"/>
                <a:ea typeface="Arial"/>
              </a:rPr>
              <a:t>) </a:t>
            </a: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3080" y="90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n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9440" y="2187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n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093080" y="5589720"/>
            <a:ext cx="71280" cy="287280"/>
          </a:xfrm>
          <a:prstGeom prst="line">
            <a:avLst/>
          </a:prstGeom>
          <a:ln w="2844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a0f"/>
                </a:solidFill>
                <a:latin typeface="Arial"/>
              </a:rPr>
              <a:t>Jellegzetes nemlineáris átviteli karakterisztikák</a:t>
            </a:r>
            <a:endParaRPr b="1" lang="en-US" sz="24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9046e"/>
                </a:solidFill>
                <a:latin typeface="Arial"/>
              </a:rPr>
              <a:t>Ábrák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Másodfokú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Szakaszosan lineáris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exponenciális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Nemlineáris torzítás fajtái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46e"/>
                </a:solidFill>
                <a:latin typeface="Arial CE"/>
              </a:rPr>
              <a:t>Harmonikus torzítás</a:t>
            </a:r>
            <a:endParaRPr b="1" lang="en-US" sz="24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4000" y="1773360"/>
            <a:ext cx="1989000" cy="45972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a</a:t>
            </a: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0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,a</a:t>
            </a: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1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,a</a:t>
            </a: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2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,…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1989000"/>
            <a:ext cx="6494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91760" y="174780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U</a:t>
            </a:r>
            <a:r>
              <a:rPr b="0" lang="hu-HU" sz="1000" spc="-1" strike="noStrike">
                <a:solidFill>
                  <a:srgbClr val="09046e"/>
                </a:solidFill>
                <a:latin typeface="Arial CE"/>
              </a:rPr>
              <a:t>be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86240" y="177336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U</a:t>
            </a:r>
            <a:r>
              <a:rPr b="0" lang="hu-HU" sz="1000" spc="-1" strike="noStrike">
                <a:solidFill>
                  <a:srgbClr val="09046e"/>
                </a:solidFill>
                <a:latin typeface="Arial CE"/>
              </a:rPr>
              <a:t>ki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9440" y="1963800"/>
            <a:ext cx="50292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3840" y="2421000"/>
            <a:ext cx="8297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U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be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(t)=U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1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 cos </a:t>
            </a:r>
            <a:r>
              <a:rPr b="1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t 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Nemlineáris torzítás esetén egy szinuszos bemenő jel is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több szinuszos komponensre bomlik (harmonikusok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Nemlineáris torzítás fajtái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5327640" cy="51735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35280" y="3715920"/>
            <a:ext cx="2808360" cy="18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armonikus torzítás mérőszáma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Pharmonikus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= ---------------------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Palap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Intermodulációs torzít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Általános modell: a csatorna bemenetére egynél több (most 2) szinuszos összetevőből álló jelet adunk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62200" y="2924280"/>
            <a:ext cx="2332440" cy="45972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a</a:t>
            </a: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0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,a</a:t>
            </a: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1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,a</a:t>
            </a: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2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,a</a:t>
            </a: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3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,a</a:t>
            </a: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4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,..a</a:t>
            </a: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n</a:t>
            </a:r>
            <a:endParaRPr b="0" lang="en-US" sz="12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12000" y="3141720"/>
            <a:ext cx="64908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45600" y="19177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U</a:t>
            </a:r>
            <a:r>
              <a:rPr b="0" lang="en-US" sz="1000" spc="-1" strike="noStrike">
                <a:solidFill>
                  <a:srgbClr val="09046e"/>
                </a:solidFill>
                <a:latin typeface="Arial CE"/>
              </a:rPr>
              <a:t>1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72120" y="29718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U</a:t>
            </a:r>
            <a:r>
              <a:rPr b="0" lang="hu-HU" sz="1000" spc="-1" strike="noStrike">
                <a:solidFill>
                  <a:srgbClr val="09046e"/>
                </a:solidFill>
                <a:latin typeface="Arial CE"/>
              </a:rPr>
              <a:t>ki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74760" y="2898720"/>
            <a:ext cx="503280" cy="504720"/>
          </a:xfrm>
          <a:prstGeom prst="ellipse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+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11280" y="2421000"/>
            <a:ext cx="0" cy="36036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462040" y="3403080"/>
            <a:ext cx="0" cy="36036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18760" y="383544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U</a:t>
            </a:r>
            <a:r>
              <a:rPr b="0" lang="en-US" sz="1000" spc="-1" strike="noStrike">
                <a:solidFill>
                  <a:srgbClr val="09046e"/>
                </a:solidFill>
                <a:latin typeface="Arial CE"/>
              </a:rPr>
              <a:t>2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00360" y="3165480"/>
            <a:ext cx="86508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944720" cy="1521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843280" y="4724280"/>
            <a:ext cx="612144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Intermodulációs torzítás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kimenőjel végtelen sok koszinuszos jelből fog állni, új kombinációs termékek jelennek meg. Intermodulációs torzítás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z egyes termékek amplitúdóját az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        1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</a:rPr>
              <a:t>i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 --------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     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határozza meg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6360" y="24210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n-1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Jelátvitel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Az információt a jel időbeli alakja hordozza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Cél: az átviteli út a jel időbeli alakját ne változassa meg. (Torzításmentes jelátvitel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Ideális csatorna: torzításmentes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Jelátviteli csatorna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46e"/>
                </a:solidFill>
                <a:latin typeface="Arial"/>
              </a:rPr>
              <a:t>Bármely jelátviteli hálózat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46e"/>
                </a:solidFill>
                <a:latin typeface="Arial"/>
              </a:rPr>
              <a:t>Bármely jelátvivő rendszer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46e"/>
                </a:solidFill>
                <a:latin typeface="Arial"/>
              </a:rPr>
              <a:t>Bármely aktív, passzív áramkör, stb.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Intermodulációs torzítás vizsgálat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ávolfrekvenciás vizsgálat, szélessávú rendszereknél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csatorna nemlinearitása szintfüggő!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Szélessávú rendszerek vizsgálatánál a kisebb frekvenciás jel nagy amplitúdójú, a normál kivezérlési szintnek megfelelő. A nagyobb frekvenciás jel kis amplitúdójú. Ez így még nem vezérli túl a csatornát, de ellenőrzi a kivezérlési tartomány alsó és felső határának környezetét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z értékeléshez spektrumanalizátort használhatunk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 nemlinearitás egy amplitúdó modulációt hoz létre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Intermodulációs torzítás vizsgálat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627280" y="692280"/>
            <a:ext cx="3546360" cy="4103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581184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f5a0f"/>
                </a:solidFill>
                <a:latin typeface="Arial"/>
              </a:rPr>
              <a:t>Közelfrekvenciás mérőjeles vizsgál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Keskenysávú, szelektív átviteli rendszerek mérésére: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616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KESKENYSÁVÚ VIZSGÁLAT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4174920" cy="2975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176720" cy="2744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8351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Műsorátviteli csatorn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640" y="2058840"/>
            <a:ext cx="1590480" cy="30708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Információ kódoló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71600" y="2060640"/>
            <a:ext cx="1480680" cy="73332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Csatorna kódoló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(Adó modulátor)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6160" y="2060640"/>
            <a:ext cx="1747440" cy="73332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9046e"/>
                </a:solidFill>
                <a:latin typeface="Arial CE"/>
              </a:rPr>
              <a:t>Csatorna dekódoló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9046e"/>
                </a:solidFill>
                <a:latin typeface="Arial CE"/>
              </a:rPr>
              <a:t>(Vevő demodulátor)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29760" y="2060640"/>
            <a:ext cx="904680" cy="30708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Csatorna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3240" y="2060640"/>
            <a:ext cx="1788480" cy="30708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Információ dekódoló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205000"/>
            <a:ext cx="14436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2205000"/>
            <a:ext cx="14436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2205000"/>
            <a:ext cx="21600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9280" y="2205000"/>
            <a:ext cx="14436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04000" y="2205000"/>
            <a:ext cx="2174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20000" y="2205000"/>
            <a:ext cx="14472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916280"/>
            <a:ext cx="0" cy="3889080"/>
          </a:xfrm>
          <a:prstGeom prst="line">
            <a:avLst/>
          </a:prstGeom>
          <a:ln w="12600">
            <a:solidFill>
              <a:srgbClr val="09046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964720" y="1916280"/>
            <a:ext cx="0" cy="3889080"/>
          </a:xfrm>
          <a:prstGeom prst="line">
            <a:avLst/>
          </a:prstGeom>
          <a:ln w="12600">
            <a:solidFill>
              <a:srgbClr val="09046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1989000"/>
            <a:ext cx="0" cy="3889440"/>
          </a:xfrm>
          <a:prstGeom prst="line">
            <a:avLst/>
          </a:prstGeom>
          <a:ln w="12600">
            <a:solidFill>
              <a:srgbClr val="09046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77080" y="1989000"/>
            <a:ext cx="0" cy="3889440"/>
          </a:xfrm>
          <a:prstGeom prst="line">
            <a:avLst/>
          </a:prstGeom>
          <a:ln w="12600">
            <a:solidFill>
              <a:srgbClr val="09046e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4797360"/>
            <a:ext cx="8713800" cy="0"/>
          </a:xfrm>
          <a:prstGeom prst="line">
            <a:avLst/>
          </a:prstGeom>
          <a:ln w="12600">
            <a:solidFill>
              <a:srgbClr val="0904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4076640"/>
            <a:ext cx="4681440" cy="0"/>
          </a:xfrm>
          <a:prstGeom prst="line">
            <a:avLst/>
          </a:prstGeom>
          <a:ln w="12600">
            <a:solidFill>
              <a:srgbClr val="0904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6520" y="429264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Átviteli rendszer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8880" y="350028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Műsor átviteli csatorna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1700280"/>
            <a:ext cx="0" cy="43344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1700280"/>
            <a:ext cx="0" cy="43344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84200" y="121752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Modulált</a:t>
            </a:r>
            <a:endParaRPr b="0" lang="en-US" sz="1200" spc="-1" strike="noStrike">
              <a:solidFill>
                <a:srgbClr val="0904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jel</a:t>
            </a:r>
            <a:endParaRPr b="0" lang="en-US" sz="12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35280" y="1243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Modulált</a:t>
            </a:r>
            <a:endParaRPr b="0" lang="en-US" sz="1200" spc="-1" strike="noStrike">
              <a:solidFill>
                <a:srgbClr val="0904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jel</a:t>
            </a:r>
            <a:endParaRPr b="0" lang="en-US" sz="12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Általános csatorna modell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Négypólus modell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Átviteli függvény: y=h(x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Feltételezzük, hogy a rendszer memóriamentes, időinvariáns. (be és kimeneti jelek összerendelési módja független az időeltolódástól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Valóságos átvitel során a hasznos jelhez zajok (külső, belső termikus), zavarok adódnak. (különválasztva tárgyaljuk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75560" y="1773360"/>
            <a:ext cx="1349640" cy="82548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Átviteli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csatorna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7840" y="2421000"/>
            <a:ext cx="649440" cy="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7840" y="2421000"/>
            <a:ext cx="0" cy="14436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6560" y="2565360"/>
            <a:ext cx="215640" cy="0"/>
          </a:xfrm>
          <a:prstGeom prst="line">
            <a:avLst/>
          </a:prstGeom>
          <a:ln w="5724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3840" y="2421000"/>
            <a:ext cx="649440" cy="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3280" y="2421000"/>
            <a:ext cx="0" cy="14436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2565360"/>
            <a:ext cx="215640" cy="0"/>
          </a:xfrm>
          <a:prstGeom prst="line">
            <a:avLst/>
          </a:prstGeom>
          <a:ln w="5724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7840" y="1916280"/>
            <a:ext cx="649440" cy="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3840" y="1916280"/>
            <a:ext cx="649440" cy="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6040" y="1773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f</a:t>
            </a:r>
            <a:r>
              <a:rPr b="0" lang="hu-HU" sz="1000" spc="-1" strike="noStrike">
                <a:solidFill>
                  <a:srgbClr val="09046e"/>
                </a:solidFill>
                <a:latin typeface="Arial CE"/>
              </a:rPr>
              <a:t>be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(t)=f</a:t>
            </a:r>
            <a:r>
              <a:rPr b="0" lang="hu-HU" sz="1000" spc="-1" strike="noStrike">
                <a:solidFill>
                  <a:srgbClr val="09046e"/>
                </a:solidFill>
                <a:latin typeface="Arial CE"/>
              </a:rPr>
              <a:t>1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2760" y="184464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f</a:t>
            </a:r>
            <a:r>
              <a:rPr b="0" lang="hu-HU" sz="1000" spc="-1" strike="noStrike">
                <a:solidFill>
                  <a:srgbClr val="09046e"/>
                </a:solidFill>
                <a:latin typeface="Arial CE"/>
              </a:rPr>
              <a:t>ki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(t)=f</a:t>
            </a:r>
            <a:r>
              <a:rPr b="0" lang="hu-HU" sz="1000" spc="-1" strike="noStrike">
                <a:solidFill>
                  <a:srgbClr val="09046e"/>
                </a:solidFill>
                <a:latin typeface="Arial CE"/>
              </a:rPr>
              <a:t>2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Valós átviteli csatorna modell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3933720"/>
            <a:ext cx="8569080" cy="21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Minden karakterisztika közelíthető Taylor sor első n tagjával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y=h(x)=a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</a:rPr>
              <a:t>0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+a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</a:rPr>
              <a:t>1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x+a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</a:rPr>
              <a:t>2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9046e"/>
                </a:solidFill>
                <a:latin typeface="Arial"/>
                <a:ea typeface="Arial"/>
              </a:rPr>
              <a:t>²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+a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</a:rPr>
              <a:t>3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9046e"/>
                </a:solidFill>
                <a:latin typeface="Arial"/>
                <a:ea typeface="Arial"/>
              </a:rPr>
              <a:t>³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+….a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8280" y="1773360"/>
            <a:ext cx="1037160" cy="45972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y=h(x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1280" y="1989000"/>
            <a:ext cx="6494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1989000"/>
            <a:ext cx="6494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01960" y="17002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f</a:t>
            </a:r>
            <a:r>
              <a:rPr b="0" lang="en-US" sz="1000" spc="-1" strike="noStrike">
                <a:solidFill>
                  <a:srgbClr val="09046e"/>
                </a:solidFill>
                <a:latin typeface="Arial CE"/>
              </a:rPr>
              <a:t>1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84800" y="1773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f</a:t>
            </a:r>
            <a:r>
              <a:rPr b="0" lang="en-US" sz="1000" spc="-1" strike="noStrike">
                <a:solidFill>
                  <a:srgbClr val="09046e"/>
                </a:solidFill>
                <a:latin typeface="Arial CE"/>
              </a:rPr>
              <a:t>2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1700280"/>
            <a:ext cx="503280" cy="504720"/>
          </a:xfrm>
          <a:prstGeom prst="ellipse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+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1916280"/>
            <a:ext cx="50328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64000" y="2204640"/>
            <a:ext cx="0" cy="36036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263700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f</a:t>
            </a:r>
            <a:r>
              <a:rPr b="0" lang="hu-HU" sz="1000" spc="-1" strike="noStrike">
                <a:solidFill>
                  <a:srgbClr val="09046e"/>
                </a:solidFill>
                <a:latin typeface="Arial CE"/>
              </a:rPr>
              <a:t>Z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49640" y="4506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n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Valós átviteli csatorna modell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</a:rPr>
              <a:t>0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 a bemeneti jeltől nem függ, egyenkomponens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</a:rPr>
              <a:t>1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x lineáris kapcsolat, a bemeneti jel konstanssal való szorzata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</a:rPr>
              <a:t>3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, a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</a:rPr>
              <a:t>4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, a5, a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</a:rPr>
              <a:t>n 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nem lineáris kapcsolat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Az átviteli csatorna általánosan modellezhető egy lineáris és egy nemlineáris szakasszal. 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További vizsgálat során sávhatárolt jeleket használunk !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Sávszélesség : </a:t>
            </a:r>
            <a:r>
              <a:rPr b="1" lang="el-GR" sz="18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  <a:ea typeface="Arial"/>
              </a:rPr>
              <a:t>B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  <a:ea typeface="Arial"/>
              </a:rPr>
              <a:t>= </a:t>
            </a:r>
            <a:r>
              <a:rPr b="1" lang="el-GR" sz="18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  <a:ea typeface="Arial"/>
              </a:rPr>
              <a:t>max</a:t>
            </a:r>
            <a:r>
              <a:rPr b="1" lang="hu-HU" sz="1800" spc="-1" strike="noStrike">
                <a:solidFill>
                  <a:srgbClr val="09046e"/>
                </a:solidFill>
                <a:latin typeface="Arial"/>
                <a:ea typeface="Arial"/>
              </a:rPr>
              <a:t>- </a:t>
            </a:r>
            <a:r>
              <a:rPr b="1" lang="el-GR" sz="18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r>
              <a:rPr b="1" lang="hu-HU" sz="1200" spc="-1" strike="noStrike">
                <a:solidFill>
                  <a:srgbClr val="09046e"/>
                </a:solidFill>
                <a:latin typeface="Arial"/>
                <a:ea typeface="Arial"/>
              </a:rPr>
              <a:t>min</a:t>
            </a:r>
            <a:endParaRPr b="1" lang="en-US" sz="12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4200" y="2971800"/>
            <a:ext cx="1625400" cy="45972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a</a:t>
            </a: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2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,a</a:t>
            </a: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3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,a</a:t>
            </a: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4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,..a</a:t>
            </a: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n</a:t>
            </a:r>
            <a:endParaRPr b="0" lang="en-US" sz="12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9680" y="3187800"/>
            <a:ext cx="64908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5880" y="3187800"/>
            <a:ext cx="6494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28987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f</a:t>
            </a:r>
            <a:r>
              <a:rPr b="0" lang="en-US" sz="1000" spc="-1" strike="noStrike">
                <a:solidFill>
                  <a:srgbClr val="09046e"/>
                </a:solidFill>
                <a:latin typeface="Arial CE"/>
              </a:rPr>
              <a:t>1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70680" y="2971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f</a:t>
            </a:r>
            <a:r>
              <a:rPr b="0" lang="en-US" sz="1000" spc="-1" strike="noStrike">
                <a:solidFill>
                  <a:srgbClr val="09046e"/>
                </a:solidFill>
                <a:latin typeface="Arial CE"/>
              </a:rPr>
              <a:t>2</a:t>
            </a: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74760" y="2898720"/>
            <a:ext cx="503280" cy="504720"/>
          </a:xfrm>
          <a:prstGeom prst="ellipse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+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98760" y="3114720"/>
            <a:ext cx="50292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462040" y="3403080"/>
            <a:ext cx="0" cy="36036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17680" y="38354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f</a:t>
            </a:r>
            <a:r>
              <a:rPr b="0" lang="hu-HU" sz="1000" spc="-1" strike="noStrike">
                <a:solidFill>
                  <a:srgbClr val="09046e"/>
                </a:solidFill>
                <a:latin typeface="Arial CE"/>
              </a:rPr>
              <a:t>Z</a:t>
            </a: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(t)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7200" y="2997360"/>
            <a:ext cx="435240" cy="459720"/>
          </a:xfrm>
          <a:prstGeom prst="rect">
            <a:avLst/>
          </a:prstGeom>
          <a:noFill/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a</a:t>
            </a:r>
            <a:r>
              <a:rPr b="0" lang="en-US" sz="1200" spc="-1" strike="noStrike">
                <a:solidFill>
                  <a:srgbClr val="09046e"/>
                </a:solidFill>
                <a:latin typeface="Arial CE"/>
              </a:rPr>
              <a:t>1</a:t>
            </a:r>
            <a:endParaRPr b="0" lang="en-US" sz="12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1280" y="3213000"/>
            <a:ext cx="86508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Átvitel vizsgálat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Frekvencia függvényében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46e"/>
                </a:solidFill>
                <a:latin typeface="Arial"/>
              </a:rPr>
              <a:t>Bemenő kimenő szintek függvényében (U vagy P)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484280"/>
            <a:ext cx="0" cy="1513080"/>
          </a:xfrm>
          <a:prstGeom prst="line">
            <a:avLst/>
          </a:prstGeom>
          <a:ln w="12600">
            <a:solidFill>
              <a:srgbClr val="0904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997360"/>
            <a:ext cx="28796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116000" y="2133360"/>
            <a:ext cx="216000" cy="64764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133720"/>
            <a:ext cx="863640" cy="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2133720"/>
            <a:ext cx="504720" cy="57456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34000" y="272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0920" y="128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A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60800" y="1465200"/>
            <a:ext cx="0" cy="1513080"/>
          </a:xfrm>
          <a:prstGeom prst="line">
            <a:avLst/>
          </a:prstGeom>
          <a:ln w="12600">
            <a:solidFill>
              <a:srgbClr val="0904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2349360"/>
            <a:ext cx="28796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292720" y="1915920"/>
            <a:ext cx="1511280" cy="93636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13800" y="2276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ω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9720" y="126828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9046e"/>
                </a:solidFill>
                <a:latin typeface="Arial CE"/>
              </a:rPr>
              <a:t>Φ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04000" y="1916280"/>
            <a:ext cx="216000" cy="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076720" y="2852640"/>
            <a:ext cx="216000" cy="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3160" y="4392720"/>
            <a:ext cx="0" cy="1512720"/>
          </a:xfrm>
          <a:prstGeom prst="line">
            <a:avLst/>
          </a:prstGeom>
          <a:ln w="12600">
            <a:solidFill>
              <a:srgbClr val="0904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3160" y="5905440"/>
            <a:ext cx="2879640" cy="0"/>
          </a:xfrm>
          <a:prstGeom prst="line">
            <a:avLst/>
          </a:prstGeom>
          <a:ln w="12600">
            <a:solidFill>
              <a:srgbClr val="0904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27280" y="4581000"/>
            <a:ext cx="1224000" cy="100836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51280" y="4508640"/>
            <a:ext cx="504720" cy="7272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11240" y="5661000"/>
            <a:ext cx="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U</a:t>
            </a:r>
            <a:r>
              <a:rPr b="0" lang="hu-HU" sz="1800" spc="-1" strike="noStrike">
                <a:solidFill>
                  <a:srgbClr val="09046e"/>
                </a:solidFill>
                <a:latin typeface="Arial CE"/>
              </a:rPr>
              <a:t>be</a:t>
            </a:r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21800" y="42210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9046e"/>
                </a:solidFill>
                <a:latin typeface="Arial CE"/>
              </a:rPr>
              <a:t>U</a:t>
            </a:r>
            <a:r>
              <a:rPr b="0" lang="hu-HU" sz="1800" spc="-1" strike="noStrike">
                <a:solidFill>
                  <a:srgbClr val="09046e"/>
                </a:solidFill>
                <a:latin typeface="Arial CE"/>
              </a:rPr>
              <a:t>ki</a:t>
            </a:r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484000" y="5589720"/>
            <a:ext cx="142920" cy="287280"/>
          </a:xfrm>
          <a:prstGeom prst="line">
            <a:avLst/>
          </a:prstGeom>
          <a:ln w="1260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Csatorna lineáris szakasza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Def: Egy rendszer lineáris, ha a bemenetére adott gerjesztéshez lineáris transzformációval rendeli a kimenetet.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9046e"/>
                </a:solidFill>
                <a:latin typeface="Arial"/>
              </a:rPr>
              <a:t>y(t) =L{x(t)}</a:t>
            </a:r>
            <a:endParaRPr b="1" lang="en-US" sz="24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7120" y="2276640"/>
            <a:ext cx="810396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y=h(x)=a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0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+a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1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x+a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2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x</a:t>
            </a:r>
            <a:r>
              <a:rPr b="1" lang="en-US" sz="2400" spc="-1" strike="noStrike">
                <a:solidFill>
                  <a:srgbClr val="09046e"/>
                </a:solidFill>
                <a:latin typeface="Arial CE"/>
              </a:rPr>
              <a:t>²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+a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3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x</a:t>
            </a:r>
            <a:r>
              <a:rPr b="1" lang="en-US" sz="2400" spc="-1" strike="noStrike">
                <a:solidFill>
                  <a:srgbClr val="09046e"/>
                </a:solidFill>
                <a:latin typeface="Arial CE"/>
              </a:rPr>
              <a:t>³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+….a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n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x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és a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0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=0, a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2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=a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3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=…=a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n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=0 de a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1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=0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akkor y(t)=a</a:t>
            </a:r>
            <a:r>
              <a:rPr b="1" lang="hu-HU" sz="1400" spc="-1" strike="noStrike">
                <a:solidFill>
                  <a:srgbClr val="09046e"/>
                </a:solidFill>
                <a:latin typeface="Arial CE"/>
              </a:rPr>
              <a:t>1</a:t>
            </a: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x(t) ahol y(t) és x(t) tetszőleges periodikus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9046e"/>
                </a:solidFill>
                <a:latin typeface="Arial CE"/>
              </a:rPr>
              <a:t>vagy véletlenszerű időfüggvények. 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7080" y="220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46e"/>
                </a:solidFill>
                <a:latin typeface="Arial CE"/>
              </a:rPr>
              <a:t>n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003640" y="3284640"/>
            <a:ext cx="144720" cy="215640"/>
          </a:xfrm>
          <a:prstGeom prst="line">
            <a:avLst/>
          </a:prstGeom>
          <a:ln w="38160">
            <a:solidFill>
              <a:srgbClr val="0904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c2f2"/>
            </a:gs>
            <a:gs pos="50000">
              <a:srgbClr val="e4ebfa"/>
            </a:gs>
            <a:gs pos="100000">
              <a:srgbClr val="aac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5a0f"/>
                </a:solidFill>
                <a:latin typeface="Arial"/>
              </a:rPr>
              <a:t>Időtartomány =&gt;Frekvenciatartomány</a:t>
            </a:r>
            <a:endParaRPr b="1" lang="en-US" sz="2800" spc="-1" strike="noStrike">
              <a:solidFill>
                <a:srgbClr val="ef5a0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Fouier transzformáció után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Y(f)=K(f)X(f) ahol K(f) az átviteli karakterisztika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kimeneti f frekvenciájú állandósult állapotú szinuszos rezgés komplex amplitúdója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= ----------------------------------------------------------------------------------------------</a:t>
            </a: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9046e"/>
                </a:solidFill>
                <a:latin typeface="Arial"/>
              </a:rPr>
              <a:t>a bemeneti f frekvenciájú állandósult állapotú szinuszos rezgés komplex amplitúdója</a:t>
            </a:r>
            <a:endParaRPr b="1" lang="en-US" sz="16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9046e"/>
                </a:solidFill>
                <a:latin typeface="Arial"/>
              </a:rPr>
              <a:t>K(f)=</a:t>
            </a: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∫ k(t) e</a:t>
            </a: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Áttérve körfrekvenciára </a:t>
            </a:r>
            <a:r>
              <a:rPr b="1" lang="el-GR" sz="24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endParaRPr b="1" lang="en-US" sz="24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46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	</a:t>
            </a: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K(</a:t>
            </a:r>
            <a:r>
              <a:rPr b="1" lang="el-GR" sz="24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)=A(</a:t>
            </a:r>
            <a:r>
              <a:rPr b="1" lang="el-GR" sz="2400" spc="-1" strike="noStrike">
                <a:solidFill>
                  <a:srgbClr val="09046e"/>
                </a:solidFill>
                <a:latin typeface="Arial"/>
                <a:ea typeface="Arial"/>
              </a:rPr>
              <a:t>ω</a:t>
            </a:r>
            <a:r>
              <a:rPr b="1" lang="hu-HU" sz="2400" spc="-1" strike="noStrike">
                <a:solidFill>
                  <a:srgbClr val="09046e"/>
                </a:solidFill>
                <a:latin typeface="Arial"/>
                <a:ea typeface="Arial"/>
              </a:rPr>
              <a:t>)e</a:t>
            </a:r>
            <a:endParaRPr b="1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51120" y="435456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9046e"/>
                </a:solidFill>
                <a:latin typeface="Arial CE"/>
              </a:rPr>
              <a:t>-j</a:t>
            </a:r>
            <a:r>
              <a:rPr b="0" lang="el-GR" sz="1400" spc="-1" strike="noStrike">
                <a:solidFill>
                  <a:srgbClr val="09046e"/>
                </a:solidFill>
                <a:latin typeface="Arial CE"/>
              </a:rPr>
              <a:t>ω</a:t>
            </a:r>
            <a:r>
              <a:rPr b="0" lang="hu-HU" sz="1400" spc="-1" strike="noStrike">
                <a:solidFill>
                  <a:srgbClr val="09046e"/>
                </a:solidFill>
                <a:latin typeface="Arial CE"/>
              </a:rPr>
              <a:t>t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4581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-∞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4149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46e"/>
                </a:solidFill>
                <a:latin typeface="Arial CE"/>
              </a:rPr>
              <a:t>+∞</a:t>
            </a:r>
            <a:endParaRPr b="0" lang="en-US" sz="2400" spc="-1" strike="noStrike">
              <a:solidFill>
                <a:srgbClr val="09046e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5157720"/>
            <a:ext cx="11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9046e"/>
                </a:solidFill>
                <a:latin typeface="Arial CE"/>
              </a:rPr>
              <a:t>J</a:t>
            </a:r>
            <a:r>
              <a:rPr b="0" lang="el-GR" sz="1400" spc="-1" strike="noStrike">
                <a:solidFill>
                  <a:srgbClr val="09046e"/>
                </a:solidFill>
                <a:latin typeface="Arial CE"/>
              </a:rPr>
              <a:t>Φ</a:t>
            </a:r>
            <a:r>
              <a:rPr b="0" lang="hu-HU" sz="1400" spc="-1" strike="noStrike">
                <a:solidFill>
                  <a:srgbClr val="09046e"/>
                </a:solidFill>
                <a:latin typeface="Arial CE"/>
              </a:rPr>
              <a:t>(</a:t>
            </a:r>
            <a:r>
              <a:rPr b="0" lang="el-GR" sz="1400" spc="-1" strike="noStrike">
                <a:solidFill>
                  <a:srgbClr val="09046e"/>
                </a:solidFill>
                <a:latin typeface="Arial CE"/>
              </a:rPr>
              <a:t>ω</a:t>
            </a:r>
            <a:r>
              <a:rPr b="0" lang="hu-HU" sz="1400" spc="-1" strike="noStrike">
                <a:solidFill>
                  <a:srgbClr val="09046e"/>
                </a:solidFill>
                <a:latin typeface="Arial CE"/>
              </a:rPr>
              <a:t>)</a:t>
            </a:r>
            <a:endParaRPr b="0" lang="en-US" sz="1400" spc="-1" strike="noStrike">
              <a:solidFill>
                <a:srgbClr val="0904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9:23:18Z</dcterms:created>
  <dc:creator>Honfy József, egyetemi adjunktus</dc:creator>
  <dc:description/>
  <dc:language>en-US</dc:language>
  <cp:lastModifiedBy>varip</cp:lastModifiedBy>
  <dcterms:modified xsi:type="dcterms:W3CDTF">2010-10-03T22:43:58Z</dcterms:modified>
  <cp:revision>9</cp:revision>
  <dc:subject/>
  <dc:title>AZ ÁTVITELI CSATORNA</dc:title>
</cp:coreProperties>
</file>